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54FC4-2FF4-4CD0-B0E4-DFF6649C8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6A19-6030-44AE-A0A2-F74F62C3A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9136C-B636-4C73-8C15-31F3A905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F7F03-77FA-46D8-8576-4FBE5D227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C8EE4-8A53-4759-BAA3-E9910D733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B4702-1F02-480D-BC18-55546969E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32CFC-579A-463C-81B7-702AFBB40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BD132-9A77-471D-83DC-1B92AAE19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BB3C7-7C7A-4A7E-A697-CA2EE0EB3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31751-8403-4EFC-B035-575287C76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7B1BE-3DDE-4684-9ECC-031AA62C2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E2E1-0FE4-419C-B99F-4B202A04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DAF0F-6406-4BA2-B9C8-CD7978DC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7A1F2-5570-467D-B9E3-705C87E6F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D4B1B-E21E-4286-B7B5-41A2FA392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65574-B601-417D-B669-AEF837192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76755-A284-4D16-A9D1-1C9F9BD0A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95F666-F8ED-45E4-AA09-4EC4F5241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E1D09-4FE6-4164-8E61-F4A2C5D2A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AE793-4B6B-4900-A9A9-2149E1107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1A0E7-CEF8-4013-A301-A401C20FD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159E5-74C2-420E-9498-D39993FBF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817A-43EA-4AE2-AD1D-8B1E15A2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CFBC4-8D31-4216-91EC-61154D3AD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6C0E8-72F5-4C5F-931F-39E29897D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F02B6-15B1-4022-BA37-44571B2B7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CA26C-DEF6-4F13-8D8A-70C23A5BE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B5788-BAC9-49AB-9A92-7CCBCB555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F4B9A-8D58-42E9-B74B-E3B78EDDA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85DDA-C093-4A6B-BD21-028571311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7226E-DE85-4358-B41E-EA989D147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1DD61-1F5F-4F6A-8C45-93AB9E4A8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DEF09-6FD3-49A5-A1CA-9A08F0875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1399-5DC7-444C-89F1-6BF802F8E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11B7D-C57E-476D-98FC-68259B14B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4591E-5219-4DF9-B1DA-8230F1DDE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ED343-FF6E-4BD4-B0A9-15AA1CDE1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0CF27-1C1C-48DD-BCF7-D73A4A09F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DAB87-2768-4947-BA2A-14B5552F0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EB156-76F4-45A9-B83D-FD2D9E0B6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ABA18-4D86-4B4A-BFD1-C8E5C593F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0DD4D1-5F0A-4D84-9038-96CB99723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4D4CD-EC15-45EB-9F54-AA7AD5AC0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6F5009-E9CF-4AE2-9F38-D89E96E4BC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CA5C-C91F-4C94-AAD9-02A84FBE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49EFA-4688-42A6-985B-BBC16E302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A6AEA-2C42-40A0-AA50-73F75935D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4F004A-A54A-4397-8376-B54EF3ED9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B29CE-4B21-4D0A-A588-5A33DEEE3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81961-BE88-4AED-A307-241E4BAD2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024CB-6A37-48D2-93C9-9050388BA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B24BA-2CC9-4F9E-8F63-20B1FC003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5CCD7-9CEC-479C-8E3D-B86602C7D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5C81F-A96D-4337-BBEA-B15CB564E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3A8734-F2EA-4BCE-9A55-EF5441BFA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2EA3-6355-43B5-BC71-1389C711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9704CD-9FC8-428D-A957-F739FB544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BBC047-54B8-4401-A0F6-178875DC8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ECA22-FF3D-4C8C-AD40-C7E089BF3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C6B5E-E1DC-4948-9A0F-FE50A5E1B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EF41C-9C2C-4E8D-A1C6-108B014E2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C3B83-0895-4D74-8918-A193B40DC5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1610C-9899-4A0B-8523-78569BE67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33A1E-AB4E-4D4D-840A-F6A636BB6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47262-7195-4071-BE36-721C6B076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DC181-042E-4365-86BA-CB271D379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A4BE-E5DF-4F11-830B-2BE14D20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16EDB-07DD-4B8C-B8C6-619CDD887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95ED4-A795-48E0-8C20-9EB34C1380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61C726-DBB5-4805-BBDE-D580F71FB2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F8E957-F797-485E-9020-8E616C31BB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76E51-B2C9-4C8D-A308-227C39211E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8957E-2DF9-4BBE-81CE-5ED6FA2DC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D9068D-1BAF-427F-8BAA-C485875A4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9AEE4-94E6-4625-8B8F-D1692C389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EE508-7733-42C4-8EFE-45FC50B0D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24B2C-EE54-4756-8A75-5748364CE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42A1-084F-4696-838C-C75A7AFB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8D39F-4FE9-495F-9518-2AABAFE10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58F51-E903-411B-BDD9-892EF84B4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0CF02-2DD5-46A0-B030-97B97AD90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DDC40-3BD1-4E3B-A19B-54552F3F46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D147C5-243E-475D-9562-2DFD1191C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3E8670-DDC5-46BE-9D0B-3D3A1AA8C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539C7-D8BC-490D-8AF4-C796CAD33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DE199-DF1C-474B-92C4-365F6F9BBD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C0CC3-EF12-4BB0-AA08-8B3A1F700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69DECF-7199-4CA7-8A00-16265D90A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73F2-E436-4A50-92B8-BC7432FF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409CF-27D9-4D53-A32C-5F8A28325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315625-9EC5-4A35-BE5D-086E0065E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6601E7-2C26-4283-8A37-9E933DFD3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57E4F-C178-4BB8-B5CB-7AD38522D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FFF3EE-590E-4153-B334-3A244F038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A7C5A-CB8D-4FE7-A956-72ACEF73B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1EBF65-9B52-4077-9427-7FF6B1BB2E0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5D6E-3B03-49AE-B7B8-FB2DFE334F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2460-6A8C-4538-A377-C40399CE9AD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AEF4-59C8-4119-BFE3-133CE22B35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5A0A-E8C6-4CF2-AD0B-C46CED3FB2C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1AB0-A884-422E-AA48-4DF1E43757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BF1D-F56B-4E15-9960-0C661FC48C2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501B-67F0-406C-83B4-48C1D696EC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454E-4A13-494B-A350-9DD7AB91F3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401760" y="1639800"/>
            <a:ext cx="8358120" cy="286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u="sng">
                <a:solidFill>
                  <a:srgbClr val="000000"/>
                </a:solidFill>
                <a:uFillTx/>
                <a:latin typeface="Lucida Sans Unicode"/>
              </a:rPr>
              <a:t>Драйвери на няколко нива (многонивови драйвери)</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Под драйвер, с тесния смисъл на думата, се разбират програмен модул, които:</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Влиза в състава на ядрото на МОС и работи в превилегирован режим;</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Непосредствено управлява външните устройства чрез взаймодействие с техните контролери;</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Обработва прекъсвания от контролера на устройството;</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Предоставя на приложните програми и потребителите удобен логически интерфейс за работа с устройството;</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Взаимодейства с други модули от ядрото на МОС по определени правила. Последните задават(описват) формата на предаваните данни, структурата на буферите, начините на включване на драйверите, наборът от процедури на подсистемата по В/И.</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В някой МОС и в техните ПВ/Идрайверите не са отделни в отделен слой. В развитието на ОС освен традиционните драйвери се появяват и драйверите на по-високите йерархични нива. Това съответства на многонивовата структура на подсистемата за В/И. Традиционните драйвери се наричат апаратни драйвери, драйвери на устройствата или ниско нивови драйвери.</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Високонивовите драйвери са разположени над ранните и обикновенно заемат от 2-ро до 5-то ниво. Те също изпълняват функции по управление от прекъсване както апаратните драйвери. Мениджерът по В/И управляват драйверите по един и същи начин независимо от нивото, на което са разположени.</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Апаратните драйвери взаимодействат със системата за прекъсванията. Те се извикват по прекъсвания, а драйверите от горните нива се (извикват) по инициатива драйверите или на тези от по-ниско ниво. Драйверите имат определена структура, в която може да се отдели секция за обработка на прекъсванията (</a:t>
            </a:r>
            <a:r>
              <a:rPr b="0" lang="en-US" sz="1700" spc="-1" strike="noStrike">
                <a:solidFill>
                  <a:srgbClr val="000000"/>
                </a:solidFill>
                <a:latin typeface="Lucida Sans Unicode"/>
              </a:rPr>
              <a:t>Interupt Service Routine, ISR). </a:t>
            </a:r>
            <a:r>
              <a:rPr b="0" lang="bg-BG" sz="1700" spc="-1" strike="noStrike">
                <a:solidFill>
                  <a:srgbClr val="000000"/>
                </a:solidFill>
                <a:latin typeface="Lucida Sans Unicode"/>
              </a:rPr>
              <a:t>Тя се извиква при постъпване на въпрос от диспечъра на прекъсванията.</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В ОС </a:t>
            </a:r>
            <a:r>
              <a:rPr b="0" lang="en-US" sz="1700" spc="-1" strike="noStrike">
                <a:solidFill>
                  <a:srgbClr val="000000"/>
                </a:solidFill>
                <a:latin typeface="Lucida Sans Unicode"/>
              </a:rPr>
              <a:t>UNIX </a:t>
            </a:r>
            <a:r>
              <a:rPr b="0" lang="bg-BG" sz="1700" spc="-1" strike="noStrike">
                <a:solidFill>
                  <a:srgbClr val="000000"/>
                </a:solidFill>
                <a:latin typeface="Lucida Sans Unicode"/>
              </a:rPr>
              <a:t>всички драйвери могат да се разделят на две основни групи:</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Блок ориентирани (</a:t>
            </a:r>
            <a:r>
              <a:rPr b="0" lang="en-US" sz="1700" spc="-1" strike="noStrike">
                <a:solidFill>
                  <a:srgbClr val="000000"/>
                </a:solidFill>
                <a:latin typeface="Lucida Sans Unicode"/>
              </a:rPr>
              <a:t>block oriental) </a:t>
            </a:r>
            <a:r>
              <a:rPr b="0" lang="bg-BG" sz="1700" spc="-1" strike="noStrike">
                <a:solidFill>
                  <a:srgbClr val="000000"/>
                </a:solidFill>
                <a:latin typeface="Lucida Sans Unicode"/>
              </a:rPr>
              <a:t>драйвери;</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Байт ориентирани (</a:t>
            </a:r>
            <a:r>
              <a:rPr b="0" lang="en-US" sz="1700" spc="-1" strike="noStrike">
                <a:solidFill>
                  <a:srgbClr val="000000"/>
                </a:solidFill>
                <a:latin typeface="Lucida Sans Unicode"/>
              </a:rPr>
              <a:t>character oriental) </a:t>
            </a:r>
            <a:r>
              <a:rPr b="0" lang="bg-BG" sz="1700" spc="-1" strike="noStrike">
                <a:solidFill>
                  <a:srgbClr val="000000"/>
                </a:solidFill>
                <a:latin typeface="Lucida Sans Unicode"/>
              </a:rPr>
              <a:t>драйвери.</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Към вторият тип се отнасят драйверите на графичните устройства, както и тези на мрежовите устройства, а към първият тип се отнасят драйверите за управление на дисковете.</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Блок ориентираните драйвери управляват устройствата с пряк достъп, на който се съхранява информация в блокове с фиксиран размер, всеки от който има собствен адрес. Адресуемостта на блоковете в устройствата с пряк достъп (каквито са дисковете) дават възможност за кеширане на данните в ОП.</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bg-BG" sz="1700" spc="-1" strike="noStrike">
                <a:solidFill>
                  <a:srgbClr val="000000"/>
                </a:solidFill>
                <a:latin typeface="Lucida Sans Unicode"/>
              </a:rPr>
              <a:t>Устройствата, които работят с байт-ориентирани драйвери не са адресуеми и не позволяват реализиране на операция по търсене на данни. Те генерират или използват байтови последователности. Такива устройства са терминалите, принтерите, мрежовите адаптери. Те също са устройства с последователен достъп.</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304560"/>
            <a:ext cx="822960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Блок или байт ориентацията е характеристика за всяко устройство, и за драйверите. Ако едно устройство не поддържа обмен на адресируеми блокови данни, а позволяват да се запишат или четат байтови последователности, то устойството и неговия драйвер са байт-ориентирани.</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Блок-ориентираните устройства могат да се управляват и от байт-ориентирани драйвери. Например дискйт може да се разглежда като набор блокове, така и като набор байтове. Физическият обмен с контролера на устройството преди всичко се осъществява от блокове, но байт-ориентираните драйвери на устройството преобразуват блока в последователност от байтове. Ето защо за устройствата с пряк достъп често се разработват двойка драйвери, които позволяват обръщението към него да се извършва и от байт-ориентираните, и по блок-ориентирани интерфейс в зависимост от необходимиостт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000000"/>
                </a:solidFill>
                <a:uFillTx/>
                <a:latin typeface="Lucida Sans Unicode"/>
              </a:rPr>
              <a:t>Специални файлове</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В ОС </a:t>
            </a:r>
            <a:r>
              <a:rPr b="0" lang="en-US" sz="1900" spc="-1" strike="noStrike">
                <a:solidFill>
                  <a:srgbClr val="000000"/>
                </a:solidFill>
                <a:latin typeface="Lucida Sans Unicode"/>
              </a:rPr>
              <a:t>UNIX </a:t>
            </a:r>
            <a:r>
              <a:rPr b="0" lang="bg-BG" sz="1900" spc="-1" strike="noStrike">
                <a:solidFill>
                  <a:srgbClr val="000000"/>
                </a:solidFill>
                <a:latin typeface="Lucida Sans Unicode"/>
              </a:rPr>
              <a:t>всички устройства се разглеждат като виртуални (специални) файлове. Това позволява да се използва общ (един и същ) списък от операции по В/И за всяко устройство, независимо от неговата специфик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Специалните (виртуални) файли не са свързани сис статични данни, съхранени на диск, а от удобно унифицирано представяне на В/И устройств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Те представят устройствата като неструктурирана последователност от байтове. Към него са възможни операциите над останалите файлове (отваряне, затваряне, редактиране, четене, добавяне и т.н.). Може да се използват същите команди за работа с файлове като: create, open, read, write and close.</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Обикновено специалните файлове в </a:t>
            </a:r>
            <a:r>
              <a:rPr b="0" lang="en-US" sz="1900" spc="-1" strike="noStrike">
                <a:solidFill>
                  <a:srgbClr val="000000"/>
                </a:solidFill>
                <a:latin typeface="Lucida Sans Unicode"/>
              </a:rPr>
              <a:t>UNIX</a:t>
            </a:r>
            <a:r>
              <a:rPr b="0" lang="bg-BG" sz="1900" spc="-1" strike="noStrike">
                <a:solidFill>
                  <a:srgbClr val="000000"/>
                </a:solidFill>
                <a:latin typeface="Lucida Sans Unicode"/>
              </a:rPr>
              <a:t> са разположени в директорията (каталога) </a:t>
            </a:r>
            <a:r>
              <a:rPr b="0" lang="en-US" sz="1900" spc="-1" strike="noStrike">
                <a:solidFill>
                  <a:srgbClr val="000000"/>
                </a:solidFill>
                <a:latin typeface="Lucida Sans Unicode"/>
              </a:rPr>
              <a:t>dev</a:t>
            </a:r>
            <a:r>
              <a:rPr b="0" lang="bg-BG" sz="1900" spc="-1" strike="noStrike">
                <a:solidFill>
                  <a:srgbClr val="000000"/>
                </a:solidFill>
                <a:latin typeface="Lucida Sans Unicode"/>
              </a:rPr>
              <a:t>, но те могат да бъдат създадеи и записани и във всяка друга директория от ФС. При появата на ново устройство и съответно нов драйвер администраторът може да създаде нов запис с помоща на командата </a:t>
            </a:r>
            <a:r>
              <a:rPr b="0" lang="en-US" sz="1900" spc="-1" strike="noStrike">
                <a:solidFill>
                  <a:srgbClr val="000000"/>
                </a:solidFill>
                <a:latin typeface="Lucida Sans Unicode"/>
              </a:rPr>
              <a:t>mkmod. </a:t>
            </a:r>
            <a:r>
              <a:rPr b="0" lang="bg-BG" sz="1900" spc="-1" strike="noStrike">
                <a:solidFill>
                  <a:srgbClr val="000000"/>
                </a:solidFill>
                <a:latin typeface="Lucida Sans Unicode"/>
              </a:rPr>
              <a:t>Например, командат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dmod (dev/dsk) sc4d3s 38 32 33</a:t>
            </a:r>
            <a:r>
              <a:rPr b="0" lang="bg-BG" sz="1900" spc="-1" strike="noStrike">
                <a:solidFill>
                  <a:srgbClr val="000000"/>
                </a:solidFill>
                <a:latin typeface="Lucida Sans Unicode"/>
              </a:rPr>
              <a:t> създава блок-ориентиран специален файл</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228240"/>
            <a:ext cx="8229600" cy="62485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000000"/>
                </a:solidFill>
                <a:uFillTx/>
                <a:latin typeface="Lucida Sans Unicode"/>
              </a:rPr>
              <a:t>Входно изходна система на </a:t>
            </a:r>
            <a:r>
              <a:rPr b="0" lang="en-US" sz="1900" spc="-1" strike="noStrike" u="sng">
                <a:solidFill>
                  <a:srgbClr val="000000"/>
                </a:solidFill>
                <a:uFillTx/>
                <a:latin typeface="Lucida Sans Unicode"/>
              </a:rPr>
              <a:t>WINDOWS N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Входно изходната система (В/ИС) приемат В/И заявки направени от системни и/или потребителски режим и ги предават в различна форма към В/И устойства. Те се намират във файлът </a:t>
            </a:r>
            <a:r>
              <a:rPr b="0" lang="en-US" sz="1900" spc="-1" strike="noStrike">
                <a:solidFill>
                  <a:srgbClr val="000000"/>
                </a:solidFill>
                <a:latin typeface="Lucida Sans Unicode"/>
              </a:rPr>
              <a:t>NTOSKRNL.EXE</a:t>
            </a:r>
            <a:r>
              <a:rPr b="0" lang="bg-BG" sz="1900" spc="-1" strike="noStrike">
                <a:solidFill>
                  <a:srgbClr val="000000"/>
                </a:solidFill>
                <a:latin typeface="Lucida Sans Unicode"/>
              </a:rPr>
              <a:t> и извършва функции, които са обичайни за, или изисквани от, повече от един драйвер.</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В/ИС дефинират модели на В/И обработка в </a:t>
            </a:r>
            <a:r>
              <a:rPr b="0" lang="en-US" sz="1900" spc="-1" strike="noStrike">
                <a:solidFill>
                  <a:srgbClr val="000000"/>
                </a:solidFill>
                <a:latin typeface="Lucida Sans Unicode"/>
              </a:rPr>
              <a:t>WINDOWS NT.</a:t>
            </a:r>
            <a:r>
              <a:rPr b="0" lang="bg-BG" sz="1900" spc="-1" strike="noStrike">
                <a:solidFill>
                  <a:srgbClr val="000000"/>
                </a:solidFill>
                <a:latin typeface="Lucida Sans Unicode"/>
              </a:rPr>
              <a:t>тя създава пакети от входно/изходни заявки и ги насочва към различни драйвери, връщат резултати на извиквания, когато вход.изходът завърши. Вътрешно В/ИС работи асинхронно, за да постигне висока производителност и предоставя на потребителите приложения синхронни и асинхронни В/И функци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Драйверите за устройствата не включват само апаратните драйвери, но и за файлова система, мрежови и слоести драйвери. Всички драйвери имат обща структура и комуникират един с друг и с мениджъра на В/И, чрез ползването на стандартни механизм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Драйверите могат да бъдат поставени е слоеве един над друг, за да се постигне модулност и да се намали дублирането между тях. Те могат да се пишат на езици от високо ниво, за да се намали времето за разработка и да се подобри преносимостта им. Трябва да бъдат проектирани така, че да работят правилно на мултипроцесотни (многопроцесорни) системи.</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304560"/>
            <a:ext cx="8229600" cy="570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bg-BG" sz="2100" spc="-1" strike="noStrike">
                <a:solidFill>
                  <a:srgbClr val="000000"/>
                </a:solidFill>
                <a:latin typeface="Lucida Sans Unicode"/>
              </a:rPr>
              <a:t>Целите и задачине на В/И са следните:</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направи бърза В/И обработка за едно- и многопроцесорни системи;</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защитават делими ресурси като използват стандартни механизми за защита на сигурността в WINDOW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удовлетворяват изискванията за В/И услугу, определени от MS WIN32, OS/2 и POSIX подсистемите;</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позволи създаването (писането) на драйвери на езици от високо ниво;</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ползват динамично добавяне или махане от устройствата на системата;</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поддържат няколко инсталируеми ФС – като FAT, CDFS, NTFS и други;</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Lucida Sans Unicode"/>
              </a:rPr>
              <a:t>Да се поредостави възможност за съпоставяне на файловия вход/изход в паметта, за активиране на изпълними файлове, кеширане на файлове и използване от приложения</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u="sng">
                <a:solidFill>
                  <a:srgbClr val="000000"/>
                </a:solidFill>
                <a:uFillTx/>
                <a:latin typeface="Lucida Sans Unicode"/>
              </a:rPr>
              <a:t>Структура на В/И систем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Lucida Sans Unicode"/>
              </a:rPr>
              <a:t>В WINDOWS NT програмите извършват В/И от виртуални файлове. Виртуалнен файл означава произволен източник или предназванчение за В/И, който се приема (третира) като гайл (сякаш е файл) (като файлове, папки, канали и mailslots). Всички данни, които се четат или записват се разглеждат като поток от байтове, насочени към тези виртуални файлове. Приложенията в потребителски режим викат документирани функции, за да четат от файл, да пишат във файл и извършват други операции. Мениджърът на В/И динамично насочва тези заявки за виртуални файлове към подходящия драйвер на устройстват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Lucida Sans Unicode"/>
              </a:rPr>
              <a:t>На фиг.3.3 е показана структурата на В/И систем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762120" y="533520"/>
            <a:ext cx="774036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Представлява набор от вътрешни системни услуги (като Nt ReadFile, NtWriteFile), с които се реализират документрните функции за В/И на подсистемат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Е отговорен за извършване на обработката на В/И заявки;</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Превръща В/И заявки специални управляващи заявки към хардуерните устройств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Се извикват от драйверите на устройствата за извършване на В/И им заявки;</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Методите на абстрактен хардуерен слой </a:t>
            </a:r>
            <a:r>
              <a:rPr b="0" lang="en-US" sz="2300" spc="-1" strike="noStrike">
                <a:solidFill>
                  <a:srgbClr val="000000"/>
                </a:solidFill>
                <a:latin typeface="Lucida Sans Unicode"/>
              </a:rPr>
              <a:t>(HAL)</a:t>
            </a:r>
            <a:r>
              <a:rPr b="0" lang="bg-BG" sz="2300" spc="-1" strike="noStrike">
                <a:solidFill>
                  <a:srgbClr val="000000"/>
                </a:solidFill>
                <a:latin typeface="Lucida Sans Unicode"/>
              </a:rPr>
              <a:t> за В/И достъп изолират драйверите на устройствата от разликите в хардуерната платформа. Позволяват изпълнимите им файлове да бъдат преносими в дадена архитектурна фамилия и програмните им файлове да бъдт преносими межу хардуерните архитектури, поддържат се от </a:t>
            </a:r>
            <a:r>
              <a:rPr b="0" lang="en-US" sz="2300" spc="-1" strike="noStrike">
                <a:solidFill>
                  <a:srgbClr val="000000"/>
                </a:solidFill>
                <a:latin typeface="Lucida Sans Unicode"/>
              </a:rPr>
              <a:t>Windows N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304920"/>
            <a:ext cx="8229600" cy="5867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bg-BG" sz="1500" spc="-1" strike="noStrike">
                <a:solidFill>
                  <a:srgbClr val="000000"/>
                </a:solidFill>
                <a:latin typeface="Lucida Sans Unicode"/>
              </a:rPr>
              <a:t>Мениджъра на В/И дефинира рамка или модел, в която В/И заявка се предава на драйверите към устройствата. В/И система се управлява от пакети (пакети от В/И заявки – IRP-&gt;I/O request packet), които пътуват от един В/И елемент към друг.</a:t>
            </a:r>
            <a:endParaRPr b="0" lang="en-US" sz="1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en-US" sz="1500" spc="-1" strike="noStrike" u="sng">
                <a:solidFill>
                  <a:srgbClr val="000000"/>
                </a:solidFill>
                <a:uFillTx/>
                <a:latin typeface="Lucida Sans Unicode"/>
              </a:rPr>
              <a:t>IRP </a:t>
            </a:r>
            <a:r>
              <a:rPr b="0" lang="bg-BG" sz="1500" spc="-1" strike="noStrike" u="sng">
                <a:solidFill>
                  <a:srgbClr val="000000"/>
                </a:solidFill>
                <a:uFillTx/>
                <a:latin typeface="Lucida Sans Unicode"/>
              </a:rPr>
              <a:t> е структура от данни</a:t>
            </a:r>
            <a:r>
              <a:rPr b="0" lang="bg-BG" sz="1500" spc="-1" strike="noStrike">
                <a:solidFill>
                  <a:srgbClr val="000000"/>
                </a:solidFill>
                <a:latin typeface="Lucida Sans Unicode"/>
              </a:rPr>
              <a:t>, която контролира как В/И операция се обработва на всики етап.</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WINDOWS NT</a:t>
            </a:r>
            <a:r>
              <a:rPr b="0" lang="bg-BG" sz="1500" spc="-1" strike="noStrike">
                <a:solidFill>
                  <a:srgbClr val="000000"/>
                </a:solidFill>
                <a:latin typeface="Lucida Sans Unicode"/>
              </a:rPr>
              <a:t> поддържа няколко вида драйвери на устройстват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Lucida Sans Unicode"/>
              </a:rPr>
              <a:t>Драйвери на виртуални устройства</a:t>
            </a:r>
            <a:r>
              <a:rPr b="0" lang="bg-BG" sz="1500" spc="-1" strike="noStrike">
                <a:solidFill>
                  <a:srgbClr val="000000"/>
                </a:solidFill>
                <a:latin typeface="Lucida Sans Unicode"/>
              </a:rPr>
              <a:t> (VDD – virtual device driver) – използва се, за да емулират 16 битови MS-DOS приложения. WINDOWS NT е напълно защитена ОС система тъй като приложенията работят в потребителски режим и нямат директен достъп до хардуер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Lucida Sans Unicode"/>
              </a:rPr>
              <a:t>Драйвери</a:t>
            </a:r>
            <a:r>
              <a:rPr b="0" lang="bg-BG" sz="1500" spc="-1" strike="noStrike">
                <a:solidFill>
                  <a:srgbClr val="000000"/>
                </a:solidFill>
                <a:latin typeface="Lucida Sans Unicode"/>
              </a:rPr>
              <a:t> за екрана (монитора) и драйвери за принтера т.е. </a:t>
            </a:r>
            <a:r>
              <a:rPr b="0" lang="bg-BG" sz="1500" spc="-1" strike="noStrike" u="sng">
                <a:solidFill>
                  <a:srgbClr val="000000"/>
                </a:solidFill>
                <a:uFillTx/>
                <a:latin typeface="Lucida Sans Unicode"/>
              </a:rPr>
              <a:t>графични драйвери в системен режим;</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Lucida Sans Unicode"/>
              </a:rPr>
              <a:t>Драйвери за устройства в системен режим</a:t>
            </a:r>
            <a:r>
              <a:rPr b="0" lang="bg-BG" sz="1500" spc="-1" strike="noStrike">
                <a:solidFill>
                  <a:srgbClr val="000000"/>
                </a:solidFill>
                <a:latin typeface="Lucida Sans Unicode"/>
              </a:rPr>
              <a:t> – само те директно контролират и осъществяват достъп до хардуерните устройства. Има няколко типа такива драйвери и тов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Драйвери на хардуерните устройств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Типове драйвери – реализират В/И обработка за определн тип устройств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Драйвери за портове – реализират обработка на В/И заявки;</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Драйвери за мини порт – съпоставят същински В/И заявки към определен вид порт;</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Драйвери за файлови системи – приемат В/И заявки за файлове и си използват, като правят свои собствени подробни заявки към драйверите на физическите устройства;</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Филтриращи драйвери на ФС – прихващат В/И заявки, извършват допълнителна обработка и ги предават към драйверите от по- ниското ниво (например </a:t>
            </a:r>
            <a:r>
              <a:rPr b="0" lang="en-US" sz="1500" spc="-1" strike="noStrike">
                <a:solidFill>
                  <a:srgbClr val="000000"/>
                </a:solidFill>
                <a:latin typeface="Lucida Sans Unicode"/>
              </a:rPr>
              <a:t>FIDISK.SYS </a:t>
            </a:r>
            <a:r>
              <a:rPr b="0" lang="bg-BG" sz="1500" spc="-1" strike="noStrike">
                <a:solidFill>
                  <a:srgbClr val="000000"/>
                </a:solidFill>
                <a:latin typeface="Lucida Sans Unicode"/>
              </a:rPr>
              <a:t>дисков драйвер с корекция за грешките).</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Lucida Sans Unicode"/>
              </a:rPr>
              <a:t>стр. 426 структура на драйвер</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228240"/>
            <a:ext cx="8229600" cy="61722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В съвременните ОС функциите по обмен на данните между компютрите и периферните устройства се реализират от подсистемите за вход-изход. Потребители (клиенти) на тази подсистема са потребителите и приложенията, както и някои елементи на ОС като например подсистемата за управление на процесите. При смяна на състояноето на активния процес, следствие наложило се прекъсване на диска се записва състоянието (контекста) на прекъснатия процес и тази информация се чете (използва) при възстановяване (детикиране, пускане) на процес.</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Основни елементи на подсистемите за вход-изход (В/И) са драйверите и файловите системи (ФС). Драйверите служат за управление на външните устройства. ФС може да се разгледжа и като отделен елемент ОС в предвид на нейната сложност, спецефичност и важност. Но тя може да се разглежда и съвместно с подсистемата за В/И тъй като в основата на повечето механизми за достъп до устройств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304920"/>
            <a:ext cx="8229600" cy="579096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bg-BG" sz="2300" spc="-1" strike="noStrike">
                <a:solidFill>
                  <a:srgbClr val="000000"/>
                </a:solidFill>
                <a:latin typeface="Lucida Sans Unicode"/>
              </a:rPr>
              <a:t>Към подсистемата за В/И може да се отнесе и диспечера на прекъсванията. Той не обслужва само тази подсистема, а и подсистемата за управление на процесите. Затова диспечера на прекъсванията може да се разгледа условно като част (елемент) от подсистемата за В/И.</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Input – Output Subsystem – </a:t>
            </a:r>
            <a:r>
              <a:rPr b="0" lang="bg-BG" sz="2300" spc="-1" strike="noStrike">
                <a:solidFill>
                  <a:srgbClr val="000000"/>
                </a:solidFill>
                <a:latin typeface="Lucida Sans Unicode"/>
              </a:rPr>
              <a:t>подсистеми за В/И</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bg-BG" sz="2300" spc="-1" strike="noStrike">
                <a:solidFill>
                  <a:srgbClr val="000000"/>
                </a:solidFill>
                <a:latin typeface="Lucida Sans Unicode"/>
              </a:rPr>
              <a:t>Задачи на МОС свързани с управлението на файловете и устройстват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Организация на паралелната работа на процесор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Съгласуване на скоростта на обмен на данните и кеширане на данните;</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Разпрееление на устройствата и данните между процесите;</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Осигуряване на удобен логически интерфейс между устройствата и останалите елементи на системат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Lucida Sans Unicode"/>
              </a:rPr>
              <a:t>Поддържане на широк спектър от драйвери с възможност за включване и на нови  в системата;</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Lucida Sans Unicode"/>
              </a:rPr>
              <a:t>Поддържане на няколко файловеи системи – архитектурата на подсистемата вход-изход (ПВ/И) трябва да позволява лсно и просто включване в нейния състав на нови типове ФС без да е необходимо да се прекъсва кода на ОС. Обикновено в МОС имат специален слой програмно осигуряване което решава тази задача. Този слой най-често се нарича виртуална файлова система (Virtual File System VFS) (UNIX, System VRevuese 4).</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Lucida Sans Unicode"/>
              </a:rPr>
              <a:t>Поддържане на синхрони и асинхрони определни по вход/изход – операциите по В/Х могат да се използват в синхронен и асинхронен режим на работа. При синхронния режим активния процес,  програмният модел е (спрях, блокиран) през цялото време на изпълнение на В/Х операция (фиг.3.1.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733320" y="685800"/>
            <a:ext cx="7677360" cy="43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638280" y="380880"/>
            <a:ext cx="7867440" cy="47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380880"/>
            <a:ext cx="8229600" cy="562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ри асинхронния режим неактивния процес (програмен модул) продължава да се използва в мултипрамен режим заедно с В/И операция (фиг.3.1.б).</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В/И трябва да продоставя на своите клиенти (потребителските процеси и кода на ядрото) възможност за синхронизиране и асинхронизиране на В/И операции. Обикновенно системите В/И операции, а вътрешните (например В кода на ядрото) като асинхронн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ри МОС с микроядренна архитектура се използва асинхронно изпълнение на потребителските процеси и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000000"/>
                </a:solidFill>
                <a:uFillTx/>
                <a:latin typeface="Lucida Sans Unicode"/>
              </a:rPr>
              <a:t>Многослоен модел на подсистемата за В/И. Обща схем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Многослойният модел се базира на йерархиината структура на програмното осигуряване. Той позволява да се намери баланса между две възможни противоположи изисквания, а именно:</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Особенностите на всяко устройство е необходимо да бъдат отнет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Да се осигури единно логическо представяне на унифицирания интерфейс за устройствата от всички типове.</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Обобщената многослойна структура е представена на фиг.3.2. (рис.3.2., стр.262).</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304920"/>
            <a:ext cx="8229600" cy="59436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Програмното осигуряване на ПВ/И се разделя на хоризонтални и вертикални слоеве. Вертикалните слоеве обединяват различни групо В/И устройства (например дискове, графични периферни устройства, мрежови устройства и други). Във всяка вертикална подсистема съществуат няколко хоризонтални слоя модули. В най-долния слой са драйверите, които управляватабстрактно съответните устройства. Те осъществяват обмен на байтове и/или блокове байтове. Не са свързани (не използват по-горните нива).</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Горните нива са свързани с логическата организация на даниите (с файловете).</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000000"/>
                </a:solidFill>
                <a:uFillTx/>
                <a:latin typeface="Lucida Sans Unicode"/>
              </a:rPr>
              <a:t>Мениджър на В/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В състава на модулите на ПВ/И има модули с универсално предназначение. Те организират работата на останалите елементи на системата, взаимодействат с другите подсистеми, както и с потребителските процеси. Тези функции, както и управлението на устройствата се реализират по всяко ниво и обратно обвивката наречена мениджър на В/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Lucida Sans Unicode"/>
              </a:rPr>
              <a:t>Най-горния слой на ПВ/И мениджърът поддържат (потребителски (интерфейс на В/И))В/И потребителски интерфейс. той предлага на потребителите и програмите максимална употреба при работа с устройства и с разположените в тях данн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457200"/>
            <a:ext cx="8229600" cy="55497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На най-долния слоймениджърът реализира взаимодействието с контролите на вътрешните устройства, екранират драйверите от особеностите на апаратната платформа на компютъра (шината на В/И, системните прекъсвания и други). Този слой прилича от драйверите въпросите(заявките) на обмен на данните от регистрите на контролера в опреелената обобщена форма. След това ги преобразуват (въпросите, заявките) в зависеща от старата платформа формат. Самият диспечер на стартовата платформа формат. Самият диспечър на прекъсванията може да бъде част от мениджъра на В/И или да е отделен модул в ядрото на МОС&g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Важна функция на мениджърът по В/И е създаването на среда за взаймодействие между останалите модули, както и организация на взаймодействието на модулите по В/И с другите модули на МОС, като например подсистемата за управление на процеси, въртуалната памет и други.</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Lucida Sans Unicode"/>
              </a:rPr>
              <a:t>В/И мениджър в ОС </a:t>
            </a:r>
            <a:r>
              <a:rPr b="0" lang="en-US" sz="1700" spc="-1" strike="noStrike">
                <a:solidFill>
                  <a:srgbClr val="000000"/>
                </a:solidFill>
                <a:latin typeface="Lucida Sans Unicode"/>
              </a:rPr>
              <a:t>UNIX</a:t>
            </a:r>
            <a:r>
              <a:rPr b="0" lang="bg-BG" sz="1700" spc="-1" strike="noStrike">
                <a:solidFill>
                  <a:srgbClr val="000000"/>
                </a:solidFill>
                <a:latin typeface="Lucida Sans Unicode"/>
              </a:rPr>
              <a:t> се явява средата </a:t>
            </a:r>
            <a:r>
              <a:rPr b="0" lang="en-US" sz="1700" spc="-1" strike="noStrike">
                <a:solidFill>
                  <a:srgbClr val="000000"/>
                </a:solidFill>
                <a:latin typeface="Lucida Sans Unicode"/>
              </a:rPr>
              <a:t>STREAMS</a:t>
            </a:r>
            <a:r>
              <a:rPr b="0" lang="bg-BG" sz="1700" spc="-1" strike="noStrike">
                <a:solidFill>
                  <a:srgbClr val="000000"/>
                </a:solidFill>
                <a:latin typeface="Lucida Sans Unicode"/>
              </a:rPr>
              <a:t>, </a:t>
            </a:r>
            <a:r>
              <a:rPr b="0" lang="en-US" sz="1700" spc="-1" strike="noStrike">
                <a:solidFill>
                  <a:srgbClr val="000000"/>
                </a:solidFill>
                <a:latin typeface="Lucida Sans Unicode"/>
              </a:rPr>
              <a:t>A&amp;Windows NT </a:t>
            </a:r>
            <a:r>
              <a:rPr b="0" lang="bg-BG" sz="1700" spc="-1" strike="noStrike">
                <a:solidFill>
                  <a:srgbClr val="000000"/>
                </a:solidFill>
                <a:latin typeface="Lucida Sans Unicode"/>
              </a:rPr>
              <a:t>пакет въпроси по В/И </a:t>
            </a:r>
            <a:r>
              <a:rPr b="0" lang="en-US" sz="1700" spc="-1" strike="noStrike">
                <a:solidFill>
                  <a:srgbClr val="000000"/>
                </a:solidFill>
                <a:latin typeface="Lucida Sans Unicode"/>
              </a:rPr>
              <a:t>IRP( I/O Request Packet). </a:t>
            </a:r>
            <a:r>
              <a:rPr b="0" lang="bg-BG" sz="1700" spc="-1" strike="noStrike">
                <a:solidFill>
                  <a:srgbClr val="000000"/>
                </a:solidFill>
                <a:latin typeface="Lucida Sans Unicode"/>
              </a:rPr>
              <a:t>Получените въпроси от процедурите за системна заявка се формулират като </a:t>
            </a:r>
            <a:r>
              <a:rPr b="0" lang="en-US" sz="1700" spc="-1" strike="noStrike">
                <a:solidFill>
                  <a:srgbClr val="000000"/>
                </a:solidFill>
                <a:latin typeface="Lucida Sans Unicode"/>
              </a:rPr>
              <a:t>IRP </a:t>
            </a:r>
            <a:r>
              <a:rPr b="0" lang="bg-BG" sz="1700" spc="-1" strike="noStrike">
                <a:solidFill>
                  <a:srgbClr val="000000"/>
                </a:solidFill>
                <a:latin typeface="Lucida Sans Unicode"/>
              </a:rPr>
              <a:t>и се предават на съответния драйвер. След изпълнение на операцията от устройството, драйвера връща отговор в други </a:t>
            </a:r>
            <a:r>
              <a:rPr b="0" lang="en-US" sz="1700" spc="-1" strike="noStrike">
                <a:solidFill>
                  <a:srgbClr val="000000"/>
                </a:solidFill>
                <a:latin typeface="Lucida Sans Unicode"/>
              </a:rPr>
              <a:t>IRP </a:t>
            </a:r>
            <a:r>
              <a:rPr b="0" lang="bg-BG" sz="1700" spc="-1" strike="noStrike">
                <a:solidFill>
                  <a:srgbClr val="000000"/>
                </a:solidFill>
                <a:latin typeface="Lucida Sans Unicode"/>
              </a:rPr>
              <a:t>пакет на мениджъра. Той от своя страна по необходимост може да го предаде на други драйвери и т.н. Мениджърът позволява да се задават взаимовръзките (</a:t>
            </a:r>
            <a:r>
              <a:rPr b="0" lang="en-US" sz="1700" spc="-1" strike="noStrike">
                <a:solidFill>
                  <a:srgbClr val="000000"/>
                </a:solidFill>
                <a:latin typeface="Lucida Sans Unicode"/>
              </a:rPr>
              <a:t>bindings)</a:t>
            </a:r>
            <a:r>
              <a:rPr b="0" lang="bg-BG" sz="1700" spc="-1" strike="noStrike">
                <a:solidFill>
                  <a:srgbClr val="000000"/>
                </a:solidFill>
                <a:latin typeface="Lucida Sans Unicode"/>
              </a:rPr>
              <a:t> между драйверите и на тази основа да се организират предаването на </a:t>
            </a:r>
            <a:r>
              <a:rPr b="0" lang="en-US" sz="1700" spc="-1" strike="noStrike">
                <a:solidFill>
                  <a:srgbClr val="000000"/>
                </a:solidFill>
                <a:latin typeface="Lucida Sans Unicode"/>
              </a:rPr>
              <a:t>IRP</a:t>
            </a:r>
            <a:r>
              <a:rPr b="0" lang="bg-BG" sz="1700" spc="-1" strike="noStrike">
                <a:solidFill>
                  <a:srgbClr val="000000"/>
                </a:solidFill>
                <a:latin typeface="Lucida Sans Unicode"/>
              </a:rPr>
              <a:t> пакетите.</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7:55:02Z</dcterms:created>
  <dc:creator>Galka</dc:creator>
  <dc:description/>
  <dc:language>en-US</dc:language>
  <cp:lastModifiedBy>Galka</cp:lastModifiedBy>
  <dcterms:modified xsi:type="dcterms:W3CDTF">2013-11-28T18:07:13Z</dcterms:modified>
  <cp:revision>2</cp:revision>
  <dc:subject/>
  <dc:title>Тема 3. Многослоен модел на подсистемата за вход-изход</dc:title>
</cp:coreProperties>
</file>